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F25-19C4-466D-AA24-A5FFB1AB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C23-EDFD-436E-87EC-42D7BFD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117-A29D-4CAC-B388-ACB18E6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48B-614D-41B6-8811-CEF65927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9CB-8F8D-4B23-8B35-FC3E31C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434-D629-4A3B-9219-7018AA66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2D5-CD2A-443D-9913-03DD95BB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4E5-5D4C-4BA4-8C86-1BC0FD9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C20-2B34-4521-9F0C-4373DC7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22B-12CE-4BB6-AE7D-1168107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93-632E-4A04-921C-F75B1FF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D9F-4552-4717-A59C-05748D0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2283-8F08-40C7-A7DB-B22A567D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-108000" y="117360"/>
            <a:ext cx="4176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950080"/>
            <a:ext cx="11509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3640" y="3860640"/>
            <a:ext cx="55116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че Господ мож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да ме защити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-324000" y="189000"/>
            <a:ext cx="446436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19640" y="3860640"/>
            <a:ext cx="52956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че Господ мож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да ме защити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  <p:transition spd="slow"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42920" y="3141720"/>
            <a:ext cx="709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болни излекува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и мъртви възкреси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5950080"/>
            <a:ext cx="11509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5084640"/>
            <a:ext cx="75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На съкрушените сърца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надежда подари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  <p:transition spd="slow"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148360" y="260280"/>
            <a:ext cx="3887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Той може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419640" y="4149720"/>
            <a:ext cx="52956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Аз зна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че Господ мож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_Albionic"/>
              </a:rPr>
              <a:t>да ме защити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_Albionic"/>
              <a:ea typeface="a_Albionic"/>
            </a:endParaRPr>
          </a:p>
        </p:txBody>
      </p:sp>
    </p:spTree>
  </p:cSld>
  <p:transition spd="slow" advTm="1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08:39Z</dcterms:created>
  <dc:creator>TrifonTrifonow</dc:creator>
  <dc:description/>
  <dc:language>en-US</dc:language>
  <cp:lastModifiedBy>TrifonTrifonow</cp:lastModifiedBy>
  <dcterms:modified xsi:type="dcterms:W3CDTF">2005-12-15T06:09:26Z</dcterms:modified>
  <cp:revision>1</cp:revision>
  <dc:subject/>
  <dc:title>Slide 1</dc:title>
</cp:coreProperties>
</file>